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D92E-AD57-4110-8171-8C5F80DAFEC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9437C-F7FE-4D97-B3F9-7D1C60D93A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remière partie des TP : Savoir appréhender et expliquer un système : ce sont les 10 premières minutes à l’o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DADC9-33BB-4C0C-AD5C-723590686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Historiquement, l’homme a commencer par realiser des systèmes techniques non automatique : il commande un système à grande éner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nsuite il a cherché a deleguer aussi la commande à la machine : il ne donne plus que des consignes de fonctionnement.(-&gt;peurs de la machine qui commande et n’obeit pl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494C7-1633-47ED-BD0B-6AEC724B83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xemp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hâteau d’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am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chine de pasteurisation du l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Générateur de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ignes hautes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adi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émo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éseau téléphon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cteur 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6D8DD-7F00-4C8B-A6C5-15D82B01C3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xemp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hâteau d’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am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achine de pasteurisation du l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Générateur de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ignes hautes 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adi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émo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Réseau téléphon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cteur 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D8871-75F5-45CD-AA3E-58299BB149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15D2-4E9F-4B73-BD0C-2A1915AB06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4BC2-B80A-4379-A146-04D074051F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3D765-7686-4A13-B626-5EC2EA2CD3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es objets nous déconcertent car il sont complexe : on ne comprend pas leur fonctionnements immédiatement à cause des nombreux elements interconnectes entre eux. Pourtant, chaque élément n’est pas difficile à analy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EAEC6-3E81-4F11-857F-569E73D647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7EBFA-4917-4561-BDCF-6765053D70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9A01E-2EBE-4108-BA79-C6436C30DC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e SADT est à la limite de la description structurelle car généralement, chaque boite correspond à un sous-système, donc un compo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3F145-831B-488A-A7BC-5BEC68E469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rois idées fortes : Composant, relation et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D3441-8D45-45E8-B521-B8EBFD2FE1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sister sur interdicip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Moteur : mecanique, electronique, magnetique, electrique, meca flu (hydraulique), chimie, thermodynamiqu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2739-EA96-4046-B65D-7315E347D0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Un système est fait pour interagir avec l’exterieur. Vu de l’exterieur, il est entièrement défini par s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a fonction dépend aussi de l’exterieur : velo pour le sport, pour aller au lycee le matin, pour la promenade, pour la rando cycliste en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9FC02-0BA2-4E41-8B77-03B28C8A26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Un système est fait pour interagir avec l’exterieur. Vu de l’exterieur, il est entièrement défini par s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La fonction dépend aussi de l’exterieur : velo pour le sport, pour aller au lycee le matin, pour la promenade, pour la rando cycliste en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6D7A-49DD-4C9E-9D09-7542ED1AE2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Historiquement, l’homme a commencer par realiser des systèmes techniques non automatique : il commande un système à grande éner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nsuite il a cherché a deleguer aussi la commande à la machine : il ne donne plus que des consignes de fonctionnement.(-&gt;peurs de la machine qui commande et n’obeit pl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FDC65-9D3D-45EC-B7FD-072244F151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784BE-9ABD-4003-9825-6652789BA2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2ED4-588B-49A3-A53F-6092ADC7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AC36-A170-4796-8D99-058B1C4D9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8B94-7DB9-4F06-8BB7-DB4593BC4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02840"/>
            <a:ext cx="2648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DDC0-FEBB-47B6-B1A7-890D1EF0C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2FF3-1455-41D2-93C8-D84322485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31B2-625C-418F-B91F-AFBCC5BDE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74A3-DC67-4778-A5CB-B5F1F229F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748E-0DC4-4064-8AE2-BC2FA51CB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5993-760A-424D-B51D-08CB289C4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36E4-F085-4A36-BE1E-35A17113F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02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A858-E38B-4298-B49F-802AD539F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63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1C37-AA5F-44CF-B85C-AF3752998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C843-035B-45AB-B601-8E046C46C77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560" y="442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89000"/>
            <a:ext cx="439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2997360"/>
          <a:ext cx="7851960" cy="374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97360"/>
                    <a:ext cx="785196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413000"/>
            <a:ext cx="7533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Objectif général de formation en STI2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dentifier les éléments influents d’un système, décoder son organisation et utiliser un modèle de comportement pour prédire ou valider ses perform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étences attend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imitées au mode lecture et interprétation sur des systèmes ou sous-systèmes si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endant les activités, être capables de modifier ou créer les modèles de comportement pour valider les solutions envisagées ou prédire un compo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7640" y="18900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15920"/>
            <a:ext cx="482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4337280" cy="120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4797360"/>
            <a:ext cx="66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ystème est vu comme une boite noire. On ne s’intéresse pas aux détails internes d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’agit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xpliciter les critères de performance d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4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Application sur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er le contexte, la frontière et la fonction principale sous forme de diagramme du lanceur Ari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4968720" cy="174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907920"/>
            <a:ext cx="3405240" cy="511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19200" y="1052640"/>
            <a:ext cx="26319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7336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 Aria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on globale du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5567400" cy="153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346560" cy="30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47628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étences attend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devez être capable d’appréhender et présenter un système ré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cela, il fa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border/Présenter le système de manière glob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nalyser/Expliquer le fonctionnement int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order/Présenter de manière glob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l fa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e contex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a fronti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xprimer la fonction principa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éfinir la matière d’œuv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éciser la valeur ajouté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onner des critères de performance (si possible quantifi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7640" y="18900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tud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115920"/>
            <a:ext cx="48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on de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actéristiques globales d’un système automat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alyse des systèmes automatis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fonctionn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structur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comporte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scriptio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3429000"/>
            <a:ext cx="66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nalyse ou la présentation d’un système passe par une étude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inter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sieur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ints de v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euvent être adoptés : fonctionnel, structurel, comportemental ou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in d’échanger efficacement, certains outils de communication so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rmalis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Ce sont principalement des outils graphiques de type diagrammes Sys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416736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3640" y="333360"/>
            <a:ext cx="58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: Système de suivi de trajectoire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0200" y="1341360"/>
            <a:ext cx="243216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446200" cy="349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19280" y="1700280"/>
            <a:ext cx="1800360" cy="936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88760" y="4292640"/>
            <a:ext cx="173340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2637000"/>
            <a:ext cx="1152360" cy="165564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52400" y="3713040"/>
            <a:ext cx="509760" cy="1951200"/>
          </a:xfrm>
          <a:prstGeom prst="line">
            <a:avLst/>
          </a:prstGeom>
          <a:ln cap="sq"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1080" y="56815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ri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753320" y="477036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7650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3714840"/>
            <a:ext cx="885672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76500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 en boucle fer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856720" cy="302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3280" y="471816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îne fonctionnelle en boucle 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5232240"/>
            <a:ext cx="8856720" cy="12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1160" y="765000"/>
            <a:ext cx="3165480" cy="410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84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er une description structurelle du système de suivi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62643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1600" y="18900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ques exemp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36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hicule auto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0320" y="3141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00" y="638172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ine de fabrication de l’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9400" y="64911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ntrale nucl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572000" cy="305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548240" cy="2372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72000" cy="284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38988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2160" y="620640"/>
            <a:ext cx="3166920" cy="4103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4520" y="11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structurel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2064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er une description structurelle du système de suivi d’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58000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920" y="3868560"/>
            <a:ext cx="65530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6320" y="11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Comportementa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3640" y="765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héma blocs fon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1719360"/>
            <a:ext cx="6553080" cy="178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42920" y="4076640"/>
            <a:ext cx="71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bloc représente le comportement d’un module transformant une grandeur physique d’entrée en une grandeur physique de sor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représentent des grandeurs phys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s schémas seront largement utilisés en « asservissements » (non au program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6320" y="11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Description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Comportementale</a:t>
            </a:r>
            <a:r>
              <a:rPr b="0" lang="fr-FR" sz="1800" spc="-1" strike="noStrike">
                <a:solidFill>
                  <a:srgbClr val="cc0000"/>
                </a:solidFill>
                <a:latin typeface="Arial"/>
              </a:rPr>
              <a:t> des 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5800" y="7650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lustration Ar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553080" cy="29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7961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72360" y="379440"/>
            <a:ext cx="2771640" cy="1936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960" y="549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fini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907920"/>
            <a:ext cx="61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appelle système 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ssembl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une collection organisée (possédant une structure) d'objet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i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branchés (en interrelation) les uns aux autres, de façon à former un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tit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un tout remplissant une ou plusieur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nc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un produit artificiel de l'esprit des ho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00" y="4006800"/>
            <a:ext cx="288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systè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ner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de ferme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linguis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capita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d’é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ystème mon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32360" y="3408480"/>
            <a:ext cx="4103640" cy="334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9240" y="60213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ner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960" y="549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fini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Théorie des Syst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éorie générale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disciplinai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qui étudie les systèmes en tant qu'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sembles d'éléme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matériels ou non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rel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es uns avec les autres et formant un 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860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disciplinarit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ter les différentes disciplines intervenant dans l’étude des mo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676840" cy="3749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95960" y="32130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eur de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27640" y="123840"/>
            <a:ext cx="2772000" cy="1936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2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Un système n’est pas un ensemb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ne suffit pas de connaître tous les composants d’un système pour connaître le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51577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o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-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 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3600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5600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formances du système 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tech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norme NFE 90-001 définit un système technique comme "un ensemble d'éléments interconnectés de façon logique, qui se coordonnent pour réaliser une tâche précis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6237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leteuse Poc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6230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bot cueilleur de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384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auto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dit automatique s'il réalise la fonction seul, sans intervention hum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4284360" cy="284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3772080"/>
            <a:ext cx="42483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90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tech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norme NFE 90-001 définit un système technique comme "un ensemble d'éléments interconnectés de façon logique, qui se coordonnent pour réaliser une tâche précis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2384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Système auto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ystème est dit automatique s'il réalise la fonction seul, sans intervention hum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4608360" cy="304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3182760"/>
            <a:ext cx="4356360" cy="291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9600" y="61135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homme délègue la partie opé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6165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homme délègue la partie opérative et la partie com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40464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utomatisation au 20ième sièc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û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Qua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én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bots d’assemblage chez CITR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43280" y="1413000"/>
          <a:ext cx="59292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413000"/>
                    <a:ext cx="59292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27640" y="123840"/>
            <a:ext cx="2772000" cy="193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9079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mplex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contient plusieurs éléments différents et combinés d'une manière qui n'est pas immédiatement claire pour l'esprit, qui est difficile à analy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5336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che dé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29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che in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894040"/>
            <a:ext cx="8424720" cy="96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5197680" cy="180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2880000" cy="20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7:48:33Z</dcterms:created>
  <dc:creator>DERU</dc:creator>
  <dc:description/>
  <dc:language>en-US</dc:language>
  <cp:lastModifiedBy>jose</cp:lastModifiedBy>
  <dcterms:modified xsi:type="dcterms:W3CDTF">2013-10-22T15:21:23Z</dcterms:modified>
  <cp:revision>30</cp:revision>
  <dc:subject/>
  <dc:title>Diapositive 1</dc:title>
</cp:coreProperties>
</file>